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27D-3941-4900-8A55-A5D8C8AA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9F9-617E-4EF1-A84D-BE2391F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CEE-5E13-4181-B6FD-626FAE43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D90-2704-4219-85BA-AC61E007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0D2-F723-439F-91C9-F0839170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701-DB05-4F37-AA2C-0797728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26D-DC02-4FFC-B36E-1D0390E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75F-DD94-48EF-A6E1-16CDE7BC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53A-317C-4B13-A5F1-BA3DCFE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1D6-B060-4517-8824-29DE6FD7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910-D71D-4B1D-A8D5-5E8268B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CB8-12AA-4792-B2E6-16409B2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D8B-A765-4E62-A630-965D77F9E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-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-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sent-tense verb must agree with its subject when the subject is a noun.  It must also agree with its subject when the subject is a pro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pronouns he, she, and it, add -s to most action verbs in the presen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e wa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us after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bench in the dug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 craw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 and 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pronouns I, we, you, and they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 not 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 to most action verbs in the presen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He, She,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ronouns and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s to the action verbs if the subjec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, she, or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add -s to the action verbs if the subjec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, we, your, or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(get, gets) up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(eat, eats) breakfast 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(know, knows)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(turn, turns) his head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(cut, cuts) the paper with scis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12:30Z</dcterms:created>
  <dc:creator>GCSD</dc:creator>
  <dc:description/>
  <dc:language>en-US</dc:language>
  <cp:lastModifiedBy>teacher</cp:lastModifiedBy>
  <dcterms:modified xsi:type="dcterms:W3CDTF">2011-02-07T01:14:05Z</dcterms:modified>
  <cp:revision>3</cp:revision>
  <dc:subject/>
  <dc:title>Pronoun-Verb Agreement</dc:title>
</cp:coreProperties>
</file>